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8AD9-3D3F-4A64-81A7-90B1FE6B7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D065-F3C4-4498-99A7-CD514A1FE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7524-152F-41C9-852F-B437F611B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9404-2BDF-44E6-9F30-81A8710C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9DDD-113C-4752-B2F2-30EAC298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9EE-EB6D-47EC-9A1C-7351E532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7D6-E3D1-4A7A-B76E-E3D930DB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F7C-907B-46B6-9BEC-5E753CD3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900-50CD-46B5-916E-E2FFD1F9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0343-0C8B-4E7C-80DA-DB946959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7CD-225F-4933-83F0-D1B5D92C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2B75-9920-4DB3-A062-A5FC945A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02F-ECA6-432B-AC8B-DF7FD0F6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CBA-D864-4E31-8244-E6B1F518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BE0-C307-4768-98A2-8038BB1E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A35C-E0A0-47FE-99D0-7EE351D4E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ysha Tu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ysha T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ysha Turan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ysha Tura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ysha Tur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505320"/>
            <a:ext cx="2133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, me llamo Aysha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Yo vivo en Astoria. Yo tengo años catorce. Yo tengo dos hermanos y también una hermana. Yo estoy calmada y fe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4038480"/>
            <a:ext cx="54864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Ok esta bien pero podemos comer arroz y habichuela ahora?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54100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Se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ir a la cuidad contigo.                                                                        Ay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438280"/>
            <a:ext cx="5486400" cy="7621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ías Aysha </a:t>
            </a:r>
            <a:r>
              <a:rPr b="0" lang="en-US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Yo estoy muy energica. ¿ tu quiéres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ir a la cuidad?                                              Se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 amiga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 niña. Tu eres muy hermosa y también simpática. ¿Donde esta Aysh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cias tía.¿ Yo estoy en la casa y tu 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Dónde están mis amig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ysha Tu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ysha T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ysha Turan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ysha Tura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ysha Tur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7"/>
          <p:cNvSpPr/>
          <p:nvPr/>
        </p:nvSpPr>
        <p:spPr>
          <a:xfrm>
            <a:off x="0" y="3505320"/>
            <a:ext cx="2133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, me llamo Aysha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Yo vivo en Astoria. Yo tengo años catorce. Yo tengo dos hermanos y también una hermana. Yo estoy calmada y fe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7"/>
          <p:cNvSpPr/>
          <p:nvPr/>
        </p:nvSpPr>
        <p:spPr>
          <a:xfrm>
            <a:off x="2743200" y="4038480"/>
            <a:ext cx="54864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Ok esta bien pero podemos comer arroz y habichuela ahora?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819520" y="3276720"/>
            <a:ext cx="54100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Se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ir a la cuidad contigo.                                                                        Ay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7"/>
          <p:cNvSpPr/>
          <p:nvPr/>
        </p:nvSpPr>
        <p:spPr>
          <a:xfrm>
            <a:off x="2743200" y="2438280"/>
            <a:ext cx="5486400" cy="7621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con su familia      Se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 amiga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 niña. Tu eres muy hermosa y también simpática. ¿Donde esta Aysh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cias tía.¿ Yo estoy en la casa y tu 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Dónde están mis amig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43:53Z</dcterms:created>
  <dc:creator>FriscoISD</dc:creator>
  <dc:description/>
  <dc:language>en-US</dc:language>
  <cp:lastModifiedBy>User</cp:lastModifiedBy>
  <dcterms:modified xsi:type="dcterms:W3CDTF">2012-12-06T14:57:54Z</dcterms:modified>
  <cp:revision>107</cp:revision>
  <dc:subject/>
  <dc:title>Profile</dc:title>
</cp:coreProperties>
</file>